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C23-A7A1-4B6C-B18B-AB3B57BD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0FD-902E-4705-8A88-3288966B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291-C352-4D20-8375-0A9E7A65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223-E3B9-4BEA-8334-F2547E10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8A1-0F16-4FB0-809F-874B4262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CFA-FEF5-4289-BB2B-0490155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E6B1-C42A-46EF-AC0F-DA8EE10A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7EC-7A58-4C42-B69E-ACBD15B1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357-CDCE-4BE5-9057-EFBCCF6B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8AC-BAFB-4C9F-874A-75EDF630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3FB-D596-4A71-AFD2-8A5317E7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774-0163-44D6-BE69-EAA84C30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A149-C59D-4268-A51E-0DE1BCC12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2f72"/>
                </a:solidFill>
                <a:latin typeface="Arial"/>
              </a:rPr>
              <a:t>Итоговая сесс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42f72"/>
                </a:solidFill>
                <a:latin typeface="Arial"/>
              </a:rPr>
              <a:t>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27-28 </a:t>
            </a:r>
            <a:r>
              <a:rPr b="1" lang="ru-RU" sz="3600" spc="-1" strike="noStrike">
                <a:solidFill>
                  <a:srgbClr val="808080"/>
                </a:solidFill>
                <a:latin typeface="Arial"/>
              </a:rPr>
              <a:t>января 200</a:t>
            </a: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9</a:t>
            </a:r>
            <a:r>
              <a:rPr b="1" lang="ru-RU" sz="3600" spc="-1" strike="noStrike">
                <a:solidFill>
                  <a:srgbClr val="808080"/>
                </a:solidFill>
                <a:latin typeface="Arial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ысококвалифицированных кадр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аспирантур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019160"/>
          <a:ext cx="8785440" cy="543888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19280"/>
                <a:gridCol w="576360"/>
                <a:gridCol w="647640"/>
              </a:tblGrid>
              <a:tr h="65232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 т.ч. с защитой диссерт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2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аспи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.ч. аспирантов – граждан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75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аспределение аспирантов, обучающихся за счет средств ФБ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по отраслям науки и специальностям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9280" y="1268280"/>
          <a:ext cx="8774280" cy="5037120"/>
        </p:xfrm>
        <a:graphic>
          <a:graphicData uri="http://schemas.openxmlformats.org/drawingml/2006/table">
            <a:tbl>
              <a:tblPr/>
              <a:tblGrid>
                <a:gridCol w="3382920"/>
                <a:gridCol w="660600"/>
                <a:gridCol w="662040"/>
                <a:gridCol w="734760"/>
                <a:gridCol w="735120"/>
                <a:gridCol w="662040"/>
                <a:gridCol w="662040"/>
                <a:gridCol w="660240"/>
                <a:gridCol w="614520"/>
              </a:tblGrid>
              <a:tr h="40320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а и управление народным хозяй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 науки о Зем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готовка высококвалифицированных кадр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докторантур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97000"/>
          <a:ext cx="8229600" cy="530532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852480"/>
                <a:gridCol w="134604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650"/>
                            </p:stCondLst>
                            <p:childTnLst>
                              <p:par>
                                <p:cTn id="2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фективность деятельнос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иссертационных совет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68360" y="1413000"/>
          <a:ext cx="8280000" cy="4925880"/>
        </p:xfrm>
        <a:graphic>
          <a:graphicData uri="http://schemas.openxmlformats.org/drawingml/2006/table">
            <a:tbl>
              <a:tblPr/>
              <a:tblGrid>
                <a:gridCol w="2426040"/>
                <a:gridCol w="2006280"/>
                <a:gridCol w="1839960"/>
                <a:gridCol w="200772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212.197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-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27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28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5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еоинформатика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036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защищенных диссертаций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з них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доктор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кандидатск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стие в выставках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конференциях 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Выста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 6 международ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Экспонат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ленные на выставка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Конференци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2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ом чис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азе ву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Премии, дипломы, наград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дательская деятельность в 2008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050920" y="836640"/>
          <a:ext cx="5040360" cy="568800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данны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граммы и методические указ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енарное заседание</a:t>
            </a:r>
            <a:br>
              <a:rPr sz="1400"/>
            </a:b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27 января 2009 г., Актовый зал РГГ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тупительное слов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тор Л.Н. Кар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учная деятельность университета в 200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ректор по НР, В.Н. Вороб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и увлажнения бассейнов больших озер в зоне гумидного клима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Мякишева Н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характеристик атмосферного аэрозоля по данным оптических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мерени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Егоров А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электронного контроля знаний студент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мин Е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ализ динамики и прогноз показателя инновационной активности в регионе на примере Санкт-Петербурга и Ленинградской обла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Абанников В.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лан действий по Балтийскому морю: проблемы и перспекти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сор Фрумин Г.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плексный анализ морского потенциала приморских реги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Гогоберидзе Г.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я выполнения научных исследований в сфере экологической безопасности в современных условиях (на примере Института геоэкологического инжиниринга РГГ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цент Дикинис А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24000" y="1700280"/>
            <a:ext cx="8820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Научная дея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Российского государственного гидрометеорологического универс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2f72"/>
                </a:solidFill>
                <a:latin typeface="Arial"/>
              </a:rPr>
              <a:t>в 2008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ые научные на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РГГ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549360"/>
          <a:ext cx="8207280" cy="5761080"/>
        </p:xfrm>
        <a:graphic>
          <a:graphicData uri="http://schemas.openxmlformats.org/drawingml/2006/table">
            <a:tbl>
              <a:tblPr/>
              <a:tblGrid>
                <a:gridCol w="439560"/>
                <a:gridCol w="6514920"/>
                <a:gridCol w="1037160"/>
                <a:gridCol w="2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системы комплексного управления прибрежными зонами морей России, устойчивого социально-экономического развития прибрежных территорий, рационального использования природных ресурс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ределение те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по количеству и объем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2004 по 20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1268280"/>
          <a:ext cx="8856720" cy="4616640"/>
        </p:xfrm>
        <a:graphic>
          <a:graphicData uri="http://schemas.openxmlformats.org/drawingml/2006/table">
            <a:tbl>
              <a:tblPr/>
              <a:tblGrid>
                <a:gridCol w="1511280"/>
                <a:gridCol w="474480"/>
                <a:gridCol w="893880"/>
                <a:gridCol w="504720"/>
                <a:gridCol w="935280"/>
                <a:gridCol w="504720"/>
                <a:gridCol w="934920"/>
                <a:gridCol w="576360"/>
                <a:gridCol w="1008000"/>
                <a:gridCol w="576360"/>
                <a:gridCol w="936720"/>
              </a:tblGrid>
              <a:tr h="28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 77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 58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57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нау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3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2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8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5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90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77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9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9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7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8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11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00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77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 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10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3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3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85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5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6 45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 81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81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8893080" y="227664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93080" y="263700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93080" y="3068640"/>
            <a:ext cx="250920" cy="287280"/>
          </a:xfrm>
          <a:prstGeom prst="upArrow">
            <a:avLst>
              <a:gd name="adj1" fmla="val 50000"/>
              <a:gd name="adj2" fmla="val 28623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3080" y="3500280"/>
            <a:ext cx="250920" cy="287640"/>
          </a:xfrm>
          <a:prstGeom prst="upArrow">
            <a:avLst>
              <a:gd name="adj1" fmla="val 50000"/>
              <a:gd name="adj2" fmla="val 28659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20000" y="3933720"/>
            <a:ext cx="324000" cy="2160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0000" y="4365720"/>
            <a:ext cx="324000" cy="21564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93080" y="4724280"/>
            <a:ext cx="250920" cy="287280"/>
          </a:xfrm>
          <a:prstGeom prst="downArrow">
            <a:avLst>
              <a:gd name="adj1" fmla="val 50000"/>
              <a:gd name="adj2" fmla="val 286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893080" y="5229360"/>
            <a:ext cx="250920" cy="287280"/>
          </a:xfrm>
          <a:prstGeom prst="downArrow">
            <a:avLst>
              <a:gd name="adj1" fmla="val 50000"/>
              <a:gd name="adj2" fmla="val 286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20000" y="5734080"/>
            <a:ext cx="324000" cy="358920"/>
          </a:xfrm>
          <a:prstGeom prst="upArrow">
            <a:avLst>
              <a:gd name="adj1" fmla="val 50000"/>
              <a:gd name="adj2" fmla="val 2769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5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500"/>
                            </p:stCondLst>
                            <p:childTnLst>
                              <p:par>
                                <p:cTn id="86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7500"/>
                            </p:stCondLst>
                            <p:childTnLst>
                              <p:par>
                                <p:cTn id="8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2500"/>
                            </p:stCondLst>
                            <p:childTnLst>
                              <p:par>
                                <p:cTn id="9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7500"/>
                            </p:stCondLst>
                            <p:childTnLst>
                              <p:par>
                                <p:cTn id="9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2500"/>
                            </p:stCondLst>
                            <p:childTnLst>
                              <p:par>
                                <p:cTn id="9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500"/>
                            </p:stCondLst>
                            <p:childTnLst>
                              <p:par>
                                <p:cTn id="10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066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еделение т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факультета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 перио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 2004 по 2008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4920" y="907920"/>
          <a:ext cx="8858160" cy="4807080"/>
        </p:xfrm>
        <a:graphic>
          <a:graphicData uri="http://schemas.openxmlformats.org/drawingml/2006/table">
            <a:tbl>
              <a:tblPr/>
              <a:tblGrid>
                <a:gridCol w="1801800"/>
                <a:gridCol w="431640"/>
                <a:gridCol w="790920"/>
                <a:gridCol w="433080"/>
                <a:gridCol w="863640"/>
                <a:gridCol w="503280"/>
                <a:gridCol w="792360"/>
                <a:gridCol w="576000"/>
                <a:gridCol w="1008360"/>
                <a:gridCol w="576000"/>
                <a:gridCol w="1081080"/>
              </a:tblGrid>
              <a:tr h="360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0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14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5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1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6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3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5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9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8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65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68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9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5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0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 5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8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66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568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8785080" y="501336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83640" y="249228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39280" y="5589720"/>
            <a:ext cx="50472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2060640"/>
            <a:ext cx="324000" cy="288720"/>
          </a:xfrm>
          <a:prstGeom prst="rightArrow">
            <a:avLst>
              <a:gd name="adj1" fmla="val 50000"/>
              <a:gd name="adj2" fmla="val 28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85080" y="400536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783640" y="4581360"/>
            <a:ext cx="3603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85080" y="335772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783640" y="285264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9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2000"/>
                            </p:stCondLst>
                            <p:childTnLst>
                              <p:par>
                                <p:cTn id="17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7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2000"/>
                            </p:stCondLst>
                            <p:childTnLst>
                              <p:par>
                                <p:cTn id="18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ведения по НИР за 2008 год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(по факультетам РГГМ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4920" y="1125360"/>
          <a:ext cx="9074160" cy="4973760"/>
        </p:xfrm>
        <a:graphic>
          <a:graphicData uri="http://schemas.openxmlformats.org/drawingml/2006/table">
            <a:tbl>
              <a:tblPr/>
              <a:tblGrid>
                <a:gridCol w="1441440"/>
                <a:gridCol w="287280"/>
                <a:gridCol w="720720"/>
                <a:gridCol w="216000"/>
                <a:gridCol w="719280"/>
                <a:gridCol w="288720"/>
                <a:gridCol w="647640"/>
                <a:gridCol w="287280"/>
                <a:gridCol w="574920"/>
                <a:gridCol w="288720"/>
                <a:gridCol w="684360"/>
                <a:gridCol w="179280"/>
                <a:gridCol w="649440"/>
                <a:gridCol w="287280"/>
                <a:gridCol w="554040"/>
                <a:gridCol w="289080"/>
                <a:gridCol w="95868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6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5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83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9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57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6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4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9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1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3 57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 23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 42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8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0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3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1 81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150"/>
                            </p:stCondLst>
                            <p:childTnLst>
                              <p:par>
                                <p:cTn id="1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 о НИР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кафедрам / подразделениям РГГ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2008 году (часть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1341360"/>
          <a:ext cx="8785440" cy="4673520"/>
        </p:xfrm>
        <a:graphic>
          <a:graphicData uri="http://schemas.openxmlformats.org/drawingml/2006/table">
            <a:tbl>
              <a:tblPr/>
              <a:tblGrid>
                <a:gridCol w="2448000"/>
                <a:gridCol w="3097080"/>
                <a:gridCol w="1368720"/>
                <a:gridCol w="1871640"/>
              </a:tblGrid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АК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0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етеорологических прогноз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4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Ф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КО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кеа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1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УП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5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О и ОП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07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ЮНЕС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0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53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физики и гидропрогноз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логии су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идромет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Геодезии и гидроге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569080" cy="9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едения о НИР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по кафедрам / подразделениям РГГМ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2008 году (часть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181160"/>
          <a:ext cx="8785440" cy="5618160"/>
        </p:xfrm>
        <a:graphic>
          <a:graphicData uri="http://schemas.openxmlformats.org/drawingml/2006/table">
            <a:tbl>
              <a:tblPr/>
              <a:tblGrid>
                <a:gridCol w="2346480"/>
                <a:gridCol w="3125880"/>
                <a:gridCol w="1309680"/>
                <a:gridCol w="2003400"/>
              </a:tblGrid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акуль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аф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-во 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ъем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 и физики природной сре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икладной 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57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из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тема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Хим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9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ческий и социально-гуманитар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и менеджм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Экономики предприятия и учетных сист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циально-гуманитарных нау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вязей с обществен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оенная кафе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419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 том числе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Морской институ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- Институт геоэкологическ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жиниринг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19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Bookman Old Style"/>
                        </a:rPr>
                        <a:t>6181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cnit</cp:lastModifiedBy>
  <dcterms:modified xsi:type="dcterms:W3CDTF">2009-01-27T15:45:49Z</dcterms:modified>
  <cp:revision>364</cp:revision>
  <dc:subject/>
  <dc:title>Итоговая сессия Ученого совета РГГМУ</dc:title>
</cp:coreProperties>
</file>